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AFF8-3DE7-49F7-9EA4-5B042AA3F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B7E9-E235-4056-B147-3298593C2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D3E2-738C-4310-944E-DB58DE0DE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393B-304C-4ECF-B997-D71E83B8A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DAAE-10CA-470D-ADE0-B5989C202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9920-82F7-4E35-BD87-60271D4AE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D861-A0C7-4999-BE2C-AA9492B28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B82D-6211-4F98-9752-4A9BB9762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ED7B-100E-4CCE-8642-9DAD87DF9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A3C2-0E0A-4E38-B33E-7E47A3CA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65CD-6516-4230-95E6-654D7D3D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288B-A133-44CE-B75B-08A58BFF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46508-3B3E-402E-87D1-FC38AF4C022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0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6320" y="228600"/>
            <a:ext cx="8915400" cy="30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699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Language Poi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6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 She wants them to let her appear </a:t>
            </a:r>
            <a:r>
              <a:rPr b="1" lang="zh-CN" sz="2800" spc="-1" strike="noStrike">
                <a:solidFill>
                  <a:srgbClr val="fc3000"/>
                </a:solidFill>
                <a:latin typeface="Times New Roman"/>
              </a:rPr>
              <a:t>liv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on the air, hoping that Huike will see 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6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Liv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 实况直播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6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football game was broadcast l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6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ore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429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3000"/>
                </a:solidFill>
                <a:latin typeface="Times New Roman"/>
              </a:rPr>
              <a:t>The Oscar ceremony is the biggest, most extravagant live event on televis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320" y="4708440"/>
            <a:ext cx="87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c3000"/>
                </a:solidFill>
                <a:latin typeface="Times New Roman"/>
              </a:rPr>
              <a:t>奥斯卡颁奖典礼是最大、最铺张的电视实况转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8T02:54:24Z</dcterms:created>
  <dc:creator>user</dc:creator>
  <dc:description/>
  <dc:language>en-US</dc:language>
  <cp:lastModifiedBy>user</cp:lastModifiedBy>
  <dcterms:modified xsi:type="dcterms:W3CDTF">2003-09-18T02:54:42Z</dcterms:modified>
  <cp:revision>1</cp:revision>
  <dc:subject/>
  <dc:title>PowerPoint 演示文稿</dc:title>
</cp:coreProperties>
</file>